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0D9-7A83-46A8-8CAA-2F3920ED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AEB-838C-4709-8B39-EB6AA6AD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FAD-EF3C-4A0A-BADC-A1A7FA0A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AF1-94E9-468D-A838-C00974D0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AA3-866C-42E1-A576-180089A0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001-328C-44DB-AFA9-8E0A18DD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256-273F-47EF-AC4C-95B2C67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898-0DFA-488C-A1AF-232A12E8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384-05FD-4740-9B66-E2B8F95C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87C-60D2-478E-A54D-EBDB1465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5CB-41E4-4D13-A374-7E9924F9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A30-8B0D-4826-BFB0-C6CDE7F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A06B-AB55-41CF-A34A-67B99986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4343400"/>
            <a:ext cx="13716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82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732.  He died in 180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pped down cherry trees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09 He di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50:12Z</dcterms:created>
  <dc:creator>smuser</dc:creator>
  <dc:description/>
  <dc:language>en-US</dc:language>
  <cp:lastModifiedBy>smuser</cp:lastModifiedBy>
  <dcterms:modified xsi:type="dcterms:W3CDTF">2010-02-08T19:30:03Z</dcterms:modified>
  <cp:revision>2</cp:revision>
  <dc:subject/>
  <dc:title>Comparing Presidents</dc:title>
</cp:coreProperties>
</file>